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8D3B-E654-4352-BB6A-5DA9749D7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471C-6918-4829-B300-29EA26B003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C315-0C49-472C-A8C0-5EAFA9DB78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6691-72E9-42E9-8477-2B581DAE44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8FB1-8C3F-4E68-ABDB-86B249790B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5996-E663-4FA6-957F-7727D2E392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D910-21AE-4C2E-B127-E488E0C48B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BA17-F85D-45B6-BCDC-2F8A24332B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A072-B909-4179-8864-6787287F69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648-65FA-450E-906C-82467B0D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B90-E728-46EA-9409-4621250F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3AE2-FB32-4D64-809E-2E392D0C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2FA-AC6D-44E1-AA08-818677CC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F357-FFAD-4A3E-A813-C8AD2056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966B-F8F8-41C3-A7BA-337EA501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3E5A-E730-409D-8232-2603CDC8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7F51-1EA1-415E-B58C-43FD89DB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B082-82E0-47FE-91F1-458D19DB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110B-A0C9-4AB8-BF54-5C0D7A3D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8D32-B259-4779-837F-6B80D4BB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DBB8-AD32-4688-BB04-35893F90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B963-5DB6-4D84-AA06-ED75AE67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FB77-874C-4A22-AFE8-5DB21456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B5CF-7659-4E22-AB20-0AC2FCB2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1222-9708-4FF5-9A78-CE252C35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170D-ABF8-4558-919B-70F18105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2A5-B250-4AB1-9F7E-B5100E5C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C81-02B0-4B7A-BF1B-1525815D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747-7FAA-4BCB-B671-CE8EC26C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71F-DA33-4CF0-93E8-EBDC5480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8F7-9CC6-4CD4-8A90-A6D20010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638-4577-4F86-8343-7E52B07C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FC2-816E-45A1-B0F2-783CDD32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3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0754-8F31-4E5B-A948-BDAA7BBF660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Rectangle 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</p:grpSp>
      <p:sp>
        <p:nvSpPr>
          <p:cNvPr id="170" name="Freeform 70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>
              <a:gd name="textAreaLeft" fmla="*/ 0 w 150840"/>
              <a:gd name="textAreaRight" fmla="*/ 151200 w 150840"/>
              <a:gd name="textAreaTop" fmla="*/ 0 h 4845240"/>
              <a:gd name="textAreaBottom" fmla="*/ 4845600 h 4845240"/>
            </a:gdLst>
            <a:ahLst/>
            <a:rect l="textAreaLeft" t="textAreaTop" r="textAreaRight" b="textAreaBottom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CFC7-FE2C-410D-BEFD-1FA80FBC2A2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　スポー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6"/>
              </a:rPr>
              <a:t>サツカ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6"/>
              </a:rPr>
              <a:t>すも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6"/>
              </a:rPr>
              <a:t>　　　　　　やきゆう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　　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27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People fill the Baseball Stadium’s in Japan the by Thousand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They come in team colours and aren’t afraid to express their feeling about the ga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7960" y="2057040"/>
            <a:ext cx="3927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076760" y="106848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Fans and their Love for the game.</a:t>
            </a: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pic>
        <p:nvPicPr>
          <p:cNvPr id="247" name="Picture 7" descr="tokyodome"/>
          <p:cNvPicPr/>
          <p:nvPr/>
        </p:nvPicPr>
        <p:blipFill>
          <a:blip r:embed="rId1"/>
          <a:stretch/>
        </p:blipFill>
        <p:spPr>
          <a:xfrm>
            <a:off x="4572000" y="2286000"/>
            <a:ext cx="426708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Sumo Wrest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In a sumo bout, a wrestler attempts to force his opponent out of a circular r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The Sport originated in Japan where the sport is practiced professiona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There are six grand tournaments annua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A sumo wrestler is also known as a Rikish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Trai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9243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Wrestlers have training every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Beginner wrestlers get up earlier than mo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&lt;--- Daily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250px-Sumoworkout"/>
          <p:cNvPicPr/>
          <p:nvPr/>
        </p:nvPicPr>
        <p:blipFill>
          <a:blip r:embed="rId1"/>
          <a:stretch/>
        </p:blipFill>
        <p:spPr>
          <a:xfrm>
            <a:off x="685800" y="2484360"/>
            <a:ext cx="39243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Trad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Wrestlers are required to live in sumo training stable known as Hehy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All Their daily activities such as eating and clothing are dictated by strict tra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Wrestlers throw salt onto the ring to purify it, before figh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merican Typewriter"/>
              </a:rPr>
              <a:t>The 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Content Placeholder 4" descr="JapanSumoMatch.jpg"/>
          <p:cNvPicPr/>
          <p:nvPr/>
        </p:nvPicPr>
        <p:blipFill>
          <a:blip r:embed="rId1"/>
          <a:stretch/>
        </p:blipFill>
        <p:spPr>
          <a:xfrm>
            <a:off x="4143240" y="1674720"/>
            <a:ext cx="4429440" cy="43974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The matches are in a ring 4.55 m in diameter and 16.26 square mete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Wrestlers enter the stadium in seperate wings of the stadium to make sure they dont see there opponent  before the matc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Before the match wrestlers swat facing each other to show that they don’t have any wepon’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orth American 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 rot="16200000">
            <a:off x="2139120" y="3239280"/>
            <a:ext cx="6324480" cy="55483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Most North Americans consider sumo wrestling as jo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ome people realize the importance of sumo wrestling  to Japan and respect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　　　　　サツカ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27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occer in Japan started in Hig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chools and Universities in the m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19th century. Soccer is a 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popular sport in the country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Japan, many people start at an ear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age.The Japanese people are bi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upporters of the J.Leagu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JONakamura"/>
          <p:cNvPicPr/>
          <p:nvPr/>
        </p:nvPicPr>
        <p:blipFill>
          <a:blip r:embed="rId1"/>
          <a:stretch/>
        </p:blipFill>
        <p:spPr>
          <a:xfrm>
            <a:off x="5424480" y="1981080"/>
            <a:ext cx="2367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J.Leagu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he most popular soccer league in Jap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2 major leagues, 18 teams in eac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he J. League board had to goals for the fu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50796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American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o have 100 clubs in the league by their 100th seas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50796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American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o separate teams and produce another Divi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Famous Foreigner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27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Gary Linek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(England Legend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Nagoya Grampu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Dunga (Coach of Brazil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Jubilo Iwa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Zico (World Cup Champion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Brazil Legend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Kashima Antler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Leonardo (Coach of AC Milan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World Cup Champion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Kashima Antler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images"/>
          <p:cNvPicPr/>
          <p:nvPr/>
        </p:nvPicPr>
        <p:blipFill>
          <a:blip r:embed="rId1"/>
          <a:stretch/>
        </p:blipFill>
        <p:spPr>
          <a:xfrm>
            <a:off x="5743440" y="4071960"/>
            <a:ext cx="1756080" cy="1596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images-1"/>
          <p:cNvPicPr/>
          <p:nvPr/>
        </p:nvPicPr>
        <p:blipFill>
          <a:blip r:embed="rId2"/>
          <a:stretch/>
        </p:blipFill>
        <p:spPr>
          <a:xfrm>
            <a:off x="5591160" y="1981080"/>
            <a:ext cx="2033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Competi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Most Championships: Kashima Antler 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Longest Reigning Champions: Kashima Antlers 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Current Champions of the J.League Cup: Tamagawa Clas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Current Champions of the Emperor’s Cup: Gamba Osa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images"/>
          <p:cNvPicPr/>
          <p:nvPr/>
        </p:nvPicPr>
        <p:blipFill>
          <a:blip r:embed="rId1"/>
          <a:stretch/>
        </p:blipFill>
        <p:spPr>
          <a:xfrm>
            <a:off x="4794120" y="1981080"/>
            <a:ext cx="3632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やきゅ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  <a:ea typeface="ヒラギノ角ゴ Pro W3"/>
              </a:rPr>
              <a:t>Baseball was introduced to japan in 1872,B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y horace wilson, who taught at the Kaisei School in Tok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Hiroshi Hiraoka, who was in United States studying engineering, introduced the game to his co-workers at Japan national railways in 1878.He created the first baseball t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Now baseball is one of the most popular sports in jap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he high school teams have 2 annual tournaments nation wide.accumulating at a final match at Hanshin Koshien Stadium in Nishinomiy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It’s a common site to see the losing teams players coming off the field in tears after being elimntaed  by  the tournament by a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Famous Na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922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4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uzuki Ichiro is</a:t>
            </a:r>
            <a:r>
              <a:rPr b="1" lang="en-US" sz="1600" spc="-1" strike="noStrike">
                <a:solidFill>
                  <a:srgbClr val="ffffff"/>
                </a:solidFill>
                <a:latin typeface="American Typewriter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arguably the best baseball player Japan has produc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Ichiro holds 9 Japanese baseball records including: Seven-time PL batting champ (‘94-’00) hits in a season (‘94) Got on base in a record 69 consecutive games (‘94) 216 consecutive at-bats without a strikeout (‘9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uzuki first started to play when he was 8.He took part twice in the National High School Baseball Tournament at Koshein Stad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6" descr="suzuki_ichiro"/>
          <p:cNvPicPr/>
          <p:nvPr/>
        </p:nvPicPr>
        <p:blipFill>
          <a:blip r:embed="rId1"/>
          <a:stretch/>
        </p:blipFill>
        <p:spPr>
          <a:xfrm>
            <a:off x="731880" y="1981080"/>
            <a:ext cx="3602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Nippon Professional Base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st level of Baseball in Jap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s call it Puro Yaky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ts traced back to Tokyo Baseball Cl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currently 12 teams in the NP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Rival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Saitama Seibu Lions and the Chiba Lotte Mari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In the Centrel League there is fierce competitions between The Yokohama Baystars and The Yomiuri Gia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6" descr="images-1"/>
          <p:cNvPicPr/>
          <p:nvPr/>
        </p:nvPicPr>
        <p:blipFill>
          <a:blip r:embed="rId1"/>
          <a:stretch/>
        </p:blipFill>
        <p:spPr>
          <a:xfrm>
            <a:off x="4952880" y="2286000"/>
            <a:ext cx="37720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20:09Z</dcterms:created>
  <dc:creator>SD#34</dc:creator>
  <dc:description/>
  <dc:language>en-US</dc:language>
  <cp:lastModifiedBy>dilraj brar</cp:lastModifiedBy>
  <dcterms:modified xsi:type="dcterms:W3CDTF">2009-12-15T04:58:31Z</dcterms:modified>
  <cp:revision>26</cp:revision>
  <dc:subject/>
  <dc:title>スポーツ</dc:title>
</cp:coreProperties>
</file>